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11.jpeg" ContentType="image/jpeg"/>
  <Override PartName="/ppt/media/image5.jpeg" ContentType="image/jpeg"/>
  <Override PartName="/ppt/media/image14.wmf" ContentType="image/x-wmf"/>
  <Override PartName="/ppt/media/image6.png" ContentType="image/png"/>
  <Override PartName="/ppt/media/image8.wmf" ContentType="image/x-wmf"/>
  <Override PartName="/ppt/media/image9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5DA91-908C-4C08-BB4C-9DF56F3BCB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4B3EB-7761-4E8B-A0E0-113EC325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A23E7-ABCC-42CF-AD37-E257556F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6C063-B2DC-4B58-8B8B-4832F85880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1498E-0363-4A50-B0C9-92965F16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093C4-A4D3-4A02-B108-EF14C7B2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F833E-A478-46D0-B52C-266715D9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F1F69-B2AB-46AE-98EB-EBB97F163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A7C9A-2489-4631-BC7E-0DAB63B12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CF0C2-5F59-4406-855E-F48C0CE1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7B474-4EBC-4F0A-A1BF-50E102C3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A8266-9580-4DC2-A415-70DE0912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7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45E1-C9D2-40AD-8DCB-386A0738CA66}" type="slidenum">
              <a:rPr b="0" lang="en-US" sz="12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S68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OPC Requested Status Re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homas Neu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echnical Projec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28-Feb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3500280"/>
            <a:ext cx="831852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: 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homas Neum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 RD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: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Andreas L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 BO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: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Kristina Norm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 BA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: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Jan Streck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6DCD0-71EB-4A7D-839F-B4726812B6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S68 BOM (as of S3)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305920" cy="5321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1898B-FB4E-4AB3-B822-093C1A392E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27320" y="3747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404640"/>
            <a:ext cx="79311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4000" y="988920"/>
            <a:ext cx="8280360" cy="523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2C806-4BFA-4CF4-8CA2-46E8309D63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Schedule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"/>
          <p:cNvSpPr/>
          <p:nvPr/>
        </p:nvSpPr>
        <p:spPr>
          <a:xfrm>
            <a:off x="7667640" y="2205000"/>
            <a:ext cx="0" cy="38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83600" y="6137280"/>
            <a:ext cx="5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o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76360" y="5837400"/>
            <a:ext cx="741672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619280" y="2494080"/>
            <a:ext cx="144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052360" y="2494080"/>
            <a:ext cx="324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57440" y="2494080"/>
            <a:ext cx="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060360" y="2494080"/>
            <a:ext cx="324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565080" y="2494080"/>
            <a:ext cx="180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068360" y="2508120"/>
            <a:ext cx="1800" cy="3368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3440" y="2495520"/>
            <a:ext cx="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076360" y="2494080"/>
            <a:ext cx="324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581800" y="2494080"/>
            <a:ext cx="144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084360" y="2495520"/>
            <a:ext cx="180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89800" y="2495520"/>
            <a:ext cx="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7093080" y="2495520"/>
            <a:ext cx="288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5960" y="2166840"/>
            <a:ext cx="43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3440" y="2664000"/>
            <a:ext cx="1008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5080" y="216684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ilot R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97800" y="2494080"/>
            <a:ext cx="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101080" y="2495520"/>
            <a:ext cx="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604360" y="2495520"/>
            <a:ext cx="144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225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2724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305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3524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385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4324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65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5160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545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5960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643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6760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723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17560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29080" y="1655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21080" y="1655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3440" y="1655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40320" y="1655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5960" y="2670120"/>
            <a:ext cx="502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53080" y="2664000"/>
            <a:ext cx="1944720" cy="14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26160" y="216684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amp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2665440"/>
            <a:ext cx="504720" cy="4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44720" y="2160720"/>
            <a:ext cx="79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2.3 P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81440" y="2160720"/>
            <a:ext cx="57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81440" y="2664000"/>
            <a:ext cx="35892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256392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168912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lest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48000" y="1268280"/>
            <a:ext cx="43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84720" y="1295280"/>
            <a:ext cx="64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3H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92720" y="1295280"/>
            <a:ext cx="64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164360" y="129528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S (57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43280" y="28083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48360" y="28083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51640" y="28083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56360" y="28083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61080" y="28083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64360" y="281448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8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64000" y="3284640"/>
            <a:ext cx="302400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311292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3573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5960" y="4543560"/>
            <a:ext cx="43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53080" y="5013360"/>
            <a:ext cx="5032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65800" y="454356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ilot R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5960" y="5019840"/>
            <a:ext cx="502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75640" y="5013360"/>
            <a:ext cx="1512720" cy="14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77080" y="454356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amp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5014800"/>
            <a:ext cx="504720" cy="5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17800" y="4537080"/>
            <a:ext cx="79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2.3 P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81440" y="4537080"/>
            <a:ext cx="57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81440" y="5013360"/>
            <a:ext cx="35892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494028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51640" y="515772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7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32720" y="518472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237440" y="518472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42160" y="518472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64000" y="5661000"/>
            <a:ext cx="302400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548964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38920" y="403236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1080" y="403236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53440" y="403236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45080" y="403236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406548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lest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48000" y="3645000"/>
            <a:ext cx="43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51640" y="3672000"/>
            <a:ext cx="64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3H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16720" y="3672000"/>
            <a:ext cx="64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164360" y="367200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S (5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93080" y="321300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1/ S25 Sche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4360" y="551664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88000" y="5013360"/>
            <a:ext cx="504720" cy="4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89440" y="4537080"/>
            <a:ext cx="3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9488E-4F10-487E-A5A5-7E11448CBC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Current problems Hardware</a:t>
            </a:r>
            <a:br>
              <a:rPr sz="2400"/>
            </a:b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Front Cov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6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</a:rPr>
              <a:t>“</a:t>
            </a: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</a:rPr>
              <a:t>South Catchers” break off Front Cover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During Clip On Battery Li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During Free Fall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Qualification of this solution was done with B1+, Reference Dimension and Min. Force fixed within TTD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The Problem has been re-occurred with B3 again.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ChiChen does not ensure Process Stability tough specified within TT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Reference Dimension was not communicated correctly from Lumberg (Integrated Supplier) towards ChiCheng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</a:rPr>
              <a:t>Solution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The Tooling has been improved 2 times.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Parts with first improvements at factory since 16-Feb-06, but mixed with old parts (only 0.1% failure).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Parts with final improvements at factory since 27-Feb-06, clean delivery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21906" t="31188" r="5027" b="14262"/>
          <a:stretch/>
        </p:blipFill>
        <p:spPr>
          <a:xfrm>
            <a:off x="1042920" y="1549440"/>
            <a:ext cx="3168720" cy="1774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2880000" cy="17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FFDA6-3C79-4C71-ADC4-29DF495064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Current problems Hardware</a:t>
            </a:r>
            <a:br>
              <a:rPr sz="2400"/>
            </a:b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Front Cov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981000"/>
            <a:ext cx="8367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</a:rPr>
              <a:t>“</a:t>
            </a: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</a:rPr>
              <a:t>Side Keys” clamping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Bad Tactile Feeling of lower Side Key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Qualification of this solution was done with B1+, based on Parts out of Prototype Tooling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The Problem has been occurred with B2.3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Lumberg has made a mistake with the mass Production Tooling (Parts too big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Post galvanizing process not stable, thus galvanic aggregates at some area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</a:rPr>
              <a:t>Solution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The Side Key Tooling has been improved.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Improved Parts at factory since 27-Feb-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The Rear Cover Tooling has been changed (in order to increase stability over mass production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First Parts out of modified tool expected at factory 09-Mar-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F1A23-2502-461B-B8BE-6734B5E051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Status Software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29476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a0e66"/>
                </a:solidFill>
                <a:uFillTx/>
                <a:latin typeface="Times New Roman"/>
              </a:rPr>
              <a:t>DS declared based upon SVN22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nCCPI: 740000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Return Rate: 8%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a0e66"/>
                </a:solidFill>
                <a:uFillTx/>
                <a:latin typeface="Times New Roman"/>
              </a:rPr>
              <a:t>Following SWV have been released by QM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SVN20 for E+ onl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SVN21 for 2.5k max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SVN22 unlimit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a0e66"/>
                </a:solidFill>
                <a:uFillTx/>
                <a:latin typeface="Times New Roman"/>
              </a:rPr>
              <a:t>SW- Operator Approval</a:t>
            </a:r>
            <a:br>
              <a:rPr sz="1800"/>
            </a:b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68360" y="3573360"/>
          <a:ext cx="8207280" cy="2587680"/>
        </p:xfrm>
        <a:graphic>
          <a:graphicData uri="http://schemas.openxmlformats.org/drawingml/2006/table">
            <a:tbl>
              <a:tblPr/>
              <a:tblGrid>
                <a:gridCol w="1160280"/>
                <a:gridCol w="698760"/>
                <a:gridCol w="1083960"/>
                <a:gridCol w="1236960"/>
                <a:gridCol w="4027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q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</a:t>
                      </a:r>
                      <a:r>
                        <a:rPr b="0" lang="en-US" sz="1800" spc="-1" strike="noStrike" baseline="30000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Ship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7.0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7.03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lease expected with SVN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7.0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4.03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lease expected with SVN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V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ot lis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31.0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03.03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ccording to O2 demand, all certificated have to be in place -&gt; Release expected with SVN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E-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6.0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4.02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imited Release with SVN20. Unlimited Release expected with SVN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835280" y="4005360"/>
            <a:ext cx="360360" cy="274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835280" y="4437000"/>
            <a:ext cx="360360" cy="2746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1835280" y="5229360"/>
            <a:ext cx="360360" cy="2746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1835280" y="5734080"/>
            <a:ext cx="360360" cy="27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C0ED7-5D00-4739-A2C4-BEC11BD716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Price/ Volume Evaluation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530280" y="5013360"/>
          <a:ext cx="8218440" cy="1192320"/>
        </p:xfrm>
        <a:graphic>
          <a:graphicData uri="http://schemas.openxmlformats.org/drawingml/2006/table">
            <a:tbl>
              <a:tblPr/>
              <a:tblGrid>
                <a:gridCol w="1089000"/>
                <a:gridCol w="1297080"/>
                <a:gridCol w="1295280"/>
                <a:gridCol w="1297080"/>
                <a:gridCol w="1295280"/>
                <a:gridCol w="1224000"/>
                <a:gridCol w="720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Be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urn O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 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294.092.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132.750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117.216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105.46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99.79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1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B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64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62,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58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58,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61,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1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6443640" y="981000"/>
            <a:ext cx="244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Quotation; K.Y. Lee, 17.01.06 BenQ Brand Lau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…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"More important is [average selling price] and [profit] margins," Mr. Lee sai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5897520" cy="389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DA93F-A359-40A1-9698-911C453385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Major Problems during Project Realization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45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Assembly of Front cov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Gluing of Mg Screw Bosses not stable over proces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Several Redesigns and ad hoc measures perform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Impact upon Project Budget, BOM and Ramp Up Quant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-59724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Battery Release Mechanism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Battery Release Mechanism not Fun to us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“South Catchers” break off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Several Redesigns and ad hoc measures perform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Impact upon Project Budget, BOM and Ramp Up Quantity and Qual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-59724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Availability/Yield of Front Cov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Several Redesigns necessary due to problems abov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Tool Crashes shortly before Ramp Up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Impact upon Ramp Up Quantity and Qual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-59724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Keypad Quality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Double Click of Navi Ring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Several Redesigns and ad hoc measures perform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No Impact (2</a:t>
            </a:r>
            <a:r>
              <a:rPr b="0" lang="en-US" sz="1600" spc="-1" strike="noStrike" baseline="30000">
                <a:solidFill>
                  <a:srgbClr val="3a0e66"/>
                </a:solidFill>
                <a:latin typeface="Minion"/>
              </a:rPr>
              <a:t>nd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 source not yet released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A34E5-EFEF-45BE-BCA3-4457A6E556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Major Problem Causes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45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Pre Development done within Product Developmen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No experiences with Metal Hous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No experiences with Metal Keypad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No experiences with Slim Design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-57888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Selection of in proper Suppli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Selection was based on Metal Case only, assembly concept was not taken into accoun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Techn. Proposals (Screw Bosses/ South Catchers) have not been reviewed thoroughl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Communication was not perfect due to local and cultural distanc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-57888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Integrated Supplier Concep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Interfaces and Responsibilities not well structur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Mismatch between specifications/ requirements given to Sub Supplier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Very Long Lead Times/ Complicated Logistic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-57888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Migration Siemens -&gt; BenQ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Lost Enthusiasm of some Project Team Members located in Ulm due to new site strateg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Permanent change of Team Members (Headcount Reduced to 60 at Ulm Site 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37185-885E-41AB-BA7D-F22BB3285C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04AA6-D2ED-48AA-B327-6ADCC259E3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Schedule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6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Recent Achievemen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-3571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DS: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23.02.06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 (vs. 24.02.06 as of M1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Times New Roman"/>
              </a:rPr>
              <a:t>Ramp Up Quantity reduced to 60k until end of 03/06 (vs. 110k as of M1);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Times New Roman"/>
              </a:rPr>
              <a:t>Current Number of S68 produced: 8.7k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Times New Roman"/>
              </a:rPr>
              <a:t>Current First Pass Rate: 88% (&lt;1% Side Keys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Outlook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-357120">
              <a:lnSpc>
                <a:spcPct val="100000"/>
              </a:lnSpc>
              <a:buClr>
                <a:srgbClr val="3a0e66"/>
              </a:buClr>
              <a:buFont typeface="Times New Roman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S4: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31.05.06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 (vs. 31.05.06 as of M1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E7DCF-7C8E-4B23-A12A-000403EF04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356000" y="1125360"/>
            <a:ext cx="4608720" cy="10522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ime-to-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DS declared on February 23, 2006 vs. M1 target of February 24, 200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56000" y="2276640"/>
            <a:ext cx="4608720" cy="37738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lloc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Orders (78k) exceed current ramp-up quantity (60k vs. 110k at M1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TO (35k) is cover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TS (43k): 25k are covered, 18k not cover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terial availabil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urrently only one keypad supplier (DK UIL) release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Delivery reliability for Mechanical parts from Lumberg (Front Cover, Rear Cover and Battery Cover) not giv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duction Technolog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Manual 100%-control is in place due to breaking south catchers -&gt; New parts arrive 27-Feb-0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Still ~ 80 % yield due to side key tactil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smetically quality of C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Receiver falling off at assembl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ixed delivery CR (with/without rework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Quality Gate Rating Polaris (S68)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DS Status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3700440" cy="396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2D341-5243-4A8D-AE73-65AFAE1ABE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Quality Gate Rating Polaris (S68)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DS Status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/>
          <p:cNvSpPr/>
          <p:nvPr/>
        </p:nvSpPr>
        <p:spPr>
          <a:xfrm>
            <a:off x="4211640" y="981000"/>
            <a:ext cx="4680000" cy="45010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&amp;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echan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Fixation of Nano I/O connector still problemat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actility of side keys still critical . Tool modification done, but parts out of the modified tool not available before 28-Fe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attery cover fixation still not sufficient, modified parts expected end of this week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igh Failure rate of drop Tests; Strong deformations of front cover (accepted by PM) which lead to difficulties in pressing the keys (cosmetic and handling issu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tatic load resistance of LCD glass and display lens not high enough. Breakage with 120N possible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weat resistance and release of Ni-Ions of you DK-UIL keypad still not as expect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ystem Te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ll approvals and certificates are avail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Q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verall Product Qual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urrent Return Rate estimation: 16% (SW+HW) at Delivery Start. RR over lifecycle 12.5%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3700440" cy="39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03933-A86E-42C9-8F34-999B4BE129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96524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Quality Gate Rating Polaris (S68)</a:t>
            </a: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Measures, Responsibilities and Due Dates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8360" y="1279440"/>
          <a:ext cx="7991280" cy="2941560"/>
        </p:xfrm>
        <a:graphic>
          <a:graphicData uri="http://schemas.openxmlformats.org/drawingml/2006/table">
            <a:tbl>
              <a:tblPr/>
              <a:tblGrid>
                <a:gridCol w="1079280"/>
                <a:gridCol w="3311640"/>
                <a:gridCol w="1008000"/>
                <a:gridCol w="993960"/>
                <a:gridCol w="15984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Q-Gate Ax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eas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ue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w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202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00% manual Insp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e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8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Doer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nstall SD-QM employee at C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0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alf Ziemins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ncrease number of shifts per w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p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01-Mar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Doer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Q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mprove Front Co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7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Kroe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mprove Battery Co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4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Kroe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mprove Side Ke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7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Kroe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mprove Injection Parameter of Display L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e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7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Kroe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peat Tests test to verify improve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p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03-Mar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efan Bisch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8BA37-F006-4F0A-98DF-1CEFAD61DD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Required Management Support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678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0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Times New Roman"/>
              </a:rPr>
              <a:t>The S68 DS Milestone has been declared: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S68 Project Team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Milestone declaration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(23-Feb-06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Head of CM Phil Mulholland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Accepts the milestone declaration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(23-Feb-06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Head of PHE  Dr. Jochen Eickhol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Accepts the milestone declaration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 (28-Feb-06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3789360"/>
            <a:ext cx="38124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084640"/>
            <a:ext cx="38124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64000" y="2421000"/>
            <a:ext cx="38124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64000" y="2205000"/>
            <a:ext cx="447840" cy="480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364000" y="3573360"/>
            <a:ext cx="447840" cy="480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364000" y="4892760"/>
            <a:ext cx="447840" cy="48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5A671-1E06-4AC0-B33D-1B50CB9AF2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48000" y="2852280"/>
            <a:ext cx="223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Times New Roma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04C30-585F-48C4-B9CA-19F5B08D9A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Financial Status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208720" cy="545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466D6-8F7A-4363-8979-40DF5463EA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S68 Budget (as of 31st January 06)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9280" y="981000"/>
          <a:ext cx="6121440" cy="309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81000"/>
                    <a:ext cx="6121440" cy="30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684360" y="4437000"/>
          <a:ext cx="5343480" cy="1609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4437000"/>
                    <a:ext cx="5343480" cy="16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6443640" y="476280"/>
            <a:ext cx="2438280" cy="57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Comme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ccount: E981-03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0 declared 13.07.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Originally planned 31.03.200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1 declared 28.09.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3 planned 31.05.2006            (originally 31.07.20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fforts after M3: 0‘45 M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ababab"/>
                </a:solidFill>
                <a:latin typeface="Arial"/>
              </a:rPr>
              <a:t>Platform:</a:t>
            </a: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04/05:  </a:t>
            </a:r>
            <a:r>
              <a:rPr b="1" lang="de-DE" sz="1000" spc="-1" strike="noStrike">
                <a:solidFill>
                  <a:srgbClr val="ababab"/>
                </a:solidFill>
                <a:latin typeface="Arial"/>
              </a:rPr>
              <a:t>1/8 of X75 Plat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ababab"/>
                </a:solidFill>
                <a:latin typeface="Arial"/>
              </a:rPr>
              <a:t>Decision of Sep 05: migration to Rel.1 </a:t>
            </a:r>
            <a:r>
              <a:rPr b="1" lang="de-DE" sz="1000" spc="-1" strike="noStrike">
                <a:solidFill>
                  <a:srgbClr val="ababab"/>
                </a:solidFill>
                <a:latin typeface="Wingdings"/>
                <a:ea typeface="Wingdings"/>
              </a:rPr>
              <a:t></a:t>
            </a:r>
            <a:r>
              <a:rPr b="1" lang="de-DE" sz="1000" spc="-1" strike="noStrike">
                <a:solidFill>
                  <a:srgbClr val="ababab"/>
                </a:solidFill>
                <a:latin typeface="Arial"/>
              </a:rPr>
              <a:t> no platform costs of           X85 SG2 Rel.2 Platform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05/06:</a:t>
            </a:r>
            <a:r>
              <a:rPr b="1" lang="de-DE" sz="1000" spc="-1" strike="noStrike">
                <a:solidFill>
                  <a:srgbClr val="ababab"/>
                </a:solidFill>
                <a:latin typeface="Arial"/>
              </a:rPr>
              <a:t>   ¼ of X75 Plat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899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EGK-Factor: 85er Ge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03/04: 1,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04/05: 2,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05/06: 2,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Forecast includ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530.000 € charging of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ctual includ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+ 256.000 liabili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284F0-8B2A-473D-9A0E-154267F01C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Thomas Neumann</cp:lastModifiedBy>
  <dcterms:modified xsi:type="dcterms:W3CDTF">2006-04-05T08:56:16Z</dcterms:modified>
  <cp:revision>191</cp:revision>
  <dc:subject/>
  <dc:title>PowerPoint 簡報</dc:title>
</cp:coreProperties>
</file>